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291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C9ED-8E87-4886-A1A0-0985BDAEB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76EF-CE79-46AC-93C3-8C051D5CD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E7F1-725F-4D68-B86C-27C6B4423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6C8E-072D-44BD-955E-247C6CDD8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BD340-F5A8-4350-B482-0C383B517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8EFEE-C593-4D3B-817D-916F101A3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7D793-40E9-4BB7-B33F-3FDD254FC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B486C-1039-49DA-A979-2258227A2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A46FD-3ACE-40A5-9696-371D2E730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9A4CE-9A4F-4274-9798-DF40372D8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E536F-9590-46AD-A586-B4805F99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E683-5DAC-4370-AD0A-FB49B62BE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009E3-8FBB-4C14-BAB8-C852239A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73383-B236-4B75-925D-079E8C98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A4C07-DC7D-4284-A3F4-0FDF23D6A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A45C5-6B08-4979-B93A-2300E10C0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1B1F6-DE48-4523-9BA4-34870445C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D1C9-201B-43FD-8AD1-3CE4632FC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4887-B506-42C5-BD3C-28F435A26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62C9-BDE0-4EE1-90B1-D95C20015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C2C8-8623-4411-A163-06032AE8F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F8FD-B0C3-4572-B2D5-AC03F99B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2046-9907-42B2-B900-2825B03E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8223-1387-45FC-A8CF-EA30FA64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732C7-5FD2-429B-AE64-28BC40B0B65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6FEA2-22BA-40CD-B188-1EEFB02E2D0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mslavkovic@kg.ac.rs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92504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ОЦЕЊИВАЊЕ ПЕРФОРМАНСИ ЗАПОСЛЕНИХ</a:t>
            </a:r>
            <a:endParaRPr b="1" lang="en-US" sz="36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ц. др Марко Славков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5715000" y="4419720"/>
            <a:ext cx="1424160" cy="16383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7"/>
          <p:cNvSpPr/>
          <p:nvPr/>
        </p:nvSpPr>
        <p:spPr>
          <a:xfrm>
            <a:off x="1600200" y="4952880"/>
            <a:ext cx="432108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УНИВЕРЗИТЕТ У КРАГУЈЕВЦ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ЕКОНОМСКИ ФАКУЛ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Крагујевац, 2019. г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8"/>
          <p:cNvGraphicFramePr/>
          <p:nvPr/>
        </p:nvGraphicFramePr>
        <p:xfrm>
          <a:off x="380880" y="4419720"/>
          <a:ext cx="1447920" cy="177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4419720"/>
                    <a:ext cx="1447920" cy="17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Picture 7" descr="memo grb copy"/>
          <p:cNvPicPr/>
          <p:nvPr/>
        </p:nvPicPr>
        <p:blipFill>
          <a:blip r:embed="rId4"/>
          <a:stretch/>
        </p:blipFill>
        <p:spPr>
          <a:xfrm>
            <a:off x="685800" y="0"/>
            <a:ext cx="769608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Избор оцењивач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Колег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-50400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зимају се у обзир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различите димензи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перформан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-50400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ве оцене су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стабилни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током вре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-50400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аве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разлик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змеђу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напора и перформан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Остал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руководиоци на топ позицијам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партнери (купци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екстерни оцењивач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Концепт “360 степени”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Најчешћ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се користи за оцену перформанси запослених на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менаџерским позицијам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цена перформанси од стран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Надређ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Подређ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Колег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на истом хијерархијском ниво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Самооцењивањ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Циклус оцењивањ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Дужина трајањ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једног циклуса оцењив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Почета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циклуса оцењив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eedback интервј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Методи и инструменти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 Рангирање запосле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Директно рангир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Рангирање на основу упарених поређе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Скала наметнуте дистрибу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I Поређење са стандард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Листа пожељних понаш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Техника наметнутог изб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Методи и инструменти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II Поређење са специфично дефинисаним стандард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Графичка скала за оце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Комбинована стандардна ск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Техника критичног инцид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Скала за оцену понаш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Управљање циљевима (MB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Balanced Scoreca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Скала за опсервацију понаш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Грешке у оцењивању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 Грешка сужавања расп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ешка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благо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и/или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строго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оцењив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ешка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централне тенден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I Хало гре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Извори грешака у оцењивању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 Несвесне греш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Фундментална грешка атрибуциј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потцењивање или прeцењивање ситуационих факт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Грешка репрезентативност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поређење са запосленима са најбољим перформанса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Грешка сећањ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сећања на екстремне догађај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Извори грешака у оцењивању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Грешка когнитивне дисторзиј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субјективност због постојећих когнитивних шема оцењивач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Грешка првог утиск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на основу првог утиска добијају се оце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Грешка егоцентричне атрибуциј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грешка проистекла из идентификације оцењивача са запосленим чије перформансе се оцењуј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Извори грешака у оцењивању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I Намерне греш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литички процеси у организациј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флационирање оц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флационирање оц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актори политичке култу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Евалуација квалитета оцене перформанси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Критерију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алид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узда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останак предубеђе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актичнос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Оцењивање перформанси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Дефиниција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цес у којем се оцењује допринос запосленог остварењу организационих циље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цењивање перформанси је олакшано уколико је у питању структуриран процес који се понаваља у одређеним временским циклуси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Хвала на пажњи</a:t>
            </a:r>
            <a:r>
              <a:rPr b="1" lang="en-US" sz="4800" spc="-1" strike="noStrike">
                <a:solidFill>
                  <a:srgbClr val="ff7547"/>
                </a:solidFill>
                <a:latin typeface="Arial"/>
              </a:rPr>
              <a:t>!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р Марко Славкови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8080"/>
                </a:solidFill>
                <a:uFillTx/>
                <a:latin typeface="Arial"/>
                <a:hlinkClick r:id="rId1"/>
              </a:rPr>
              <a:t>mslavkovic@kg.ac.r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markoslavkovic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Димензије посл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тоји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 димензиј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посла које могу бити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предмет оцењивањ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Квалит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Квантит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Поштовање временских рок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Трошковна ефикас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Потреба за надзо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Интерперсонални утица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Значај оцене перформанси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Информациј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добијене у процесу оцене перформанси запослених имају неколико важних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функциј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Развој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функ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Административ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функ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Стабилизаторск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функ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Документар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функ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Врсте перформанси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 Личне карактеристике запосле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рзина одлучивања и логичког расуђив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кретање иницијати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особност вербалне и невербалне комуник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ојалност и степен идентификације са организациј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Врсте перформанси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Проблем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 мерењу личних карактеристи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тицај ситуационих факт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сервација личних карактери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хтева додатно објашњење запосленима шта треба да пром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игидност у кратком временском ро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Врсте перформанси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I Понашање запосле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кценат је на начину обављања по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финисање стандар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Проблематичне ситуациј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Шта када су задовољени циљеви перформанси кроз различита понашања?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Врсте перформанси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II Резулт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сновани су на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квантитативни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показатељи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Квалитативн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показатеље је могуће квантификова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Проблематичне ситуациј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Како релативизовати утицај спољних фактора?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Избор оцењивач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Непосредни руководиоц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имају добар увид у рад запослен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Самооцењивањ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-50400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Информациона ограничењ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различите перцепције о захтевима пос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-50400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Когнитивна ограничењ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различита обрада информациј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-50400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Афективна ограничењ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осећај страха и угроже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2T19:12:42Z</dcterms:created>
  <dc:creator>User</dc:creator>
  <dc:description/>
  <dc:language>en-US</dc:language>
  <cp:lastModifiedBy>Marko Slavkovic</cp:lastModifiedBy>
  <dcterms:modified xsi:type="dcterms:W3CDTF">2019-02-24T06:46:29Z</dcterms:modified>
  <cp:revision>148</cp:revision>
  <dc:subject/>
  <dc:title>Soft and Hard Skills Development: A Current Situation in Serbian Companies</dc:title>
</cp:coreProperties>
</file>